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CF15-DA07-4C2E-A063-1453DD0B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4DA8-E26E-4416-8F51-5B929DEE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A547-E3ED-437F-A8D2-D458CEB8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2007-D291-47FF-8DEA-7E9A68C7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166E-2A57-4B0E-AE87-656BAF27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5E87-3EE0-470D-BF73-5F39D9AD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D9F5-BB70-4D83-9B24-E9634550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520F-A784-48B7-83D7-46B93560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B83B-B925-4FF4-B4C0-EEE6BA85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9E67-92FB-4864-B068-E45AFC31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E294-FAD7-4D20-B8CC-B4EBE70E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F06A-D6E2-4443-966A-6BF9EFDE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7F18-DDD4-4F2F-93AC-57FFCEEA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18F8-A13B-47F5-8672-B42F50E5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B818-7E38-4096-A283-C67C3924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D91E-5EE0-4A9D-82B8-456349D7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69A3-1A8F-44A9-A2C1-C21CE4BE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1D22-22FB-4353-8750-783E66CA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A03F-3B05-4110-B5FB-F13D4E3A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3169-71C6-413E-8738-0C2B8D89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EDE4-969A-4B65-B39A-77B9D905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79BB-70FF-41AD-8A7A-52B73FC2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BCC0-36EC-48D8-B5D7-A336E104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4A27-214D-4DE8-93D9-C5EC101B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2C88-087E-414F-A3CF-3CE65E67B128}" type="slidenum">
              <a:rPr b="0" lang="sl-SI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83D3-0BEB-4AAC-80FA-AB218F8784EC}" type="slidenum">
              <a:rPr b="0" lang="sl-SI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OBLIKOVANJE IN DEFINIRANJE POJMOV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979640" y="5013360"/>
            <a:ext cx="6656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Blaž Mesec in Liljana Rihter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EFINIR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ZHAJAMO IZ NAZIVA POJMA IN PRIPIŠEMO ZNAČILNOSTI, KI GA OPREDELJUJEJO (Raziskava o razlikah v vedenju dečkov, ki so jih vodili na različne načine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637000"/>
            <a:ext cx="4498920" cy="38376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KONKRETNE IZJAVE IN RAVNANJA VODIJ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cc99ff"/>
                </a:solidFill>
                <a:latin typeface="Verdana"/>
              </a:rPr>
              <a:t>Nadenite predpasnike”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cc99ff"/>
                </a:solidFill>
                <a:latin typeface="Verdana"/>
              </a:rPr>
              <a:t>Odložite jopič”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Potrebujem lepilo”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Danes bomo barvali”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To bova midva” – “Ne, to bosta druga dva”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996633"/>
                </a:solidFill>
                <a:latin typeface="Verdana"/>
              </a:rPr>
              <a:t>Kako si neumen”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996633"/>
                </a:solidFill>
                <a:latin typeface="Verdana"/>
              </a:rPr>
              <a:t>Kateri osel je to naredil?”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3645000"/>
            <a:ext cx="251928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Verdana"/>
              </a:rPr>
              <a:t>Neposreden UKAZ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43280" y="4292640"/>
            <a:ext cx="244980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Posreden UKAZ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43280" y="2637000"/>
            <a:ext cx="2592720" cy="6426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ZDRUŽEVANJE PO PODOBNOSTI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4869000"/>
            <a:ext cx="2664000" cy="6426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Uveljavljanje VOLJE VODJ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43280" y="544500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43280" y="6021360"/>
            <a:ext cx="266544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Verdana"/>
              </a:rPr>
              <a:t>ŽALJIVA KRITIK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51640" y="2708280"/>
            <a:ext cx="1441440" cy="91692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VTORITARNO VODENJ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268360" y="2276640"/>
            <a:ext cx="6048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Verdana"/>
              </a:rPr>
              <a:t>DEFINIRANJE POJMOV: VRSTE DEFINICIJ (1)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6421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Definirati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= natančno določiti pomen pojm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Definicije:</a:t>
            </a:r>
            <a:r>
              <a:rPr b="0" lang="sl-SI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denotativne in konotativn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9933"/>
                </a:solidFill>
                <a:latin typeface="Verdana"/>
              </a:rPr>
              <a:t>Denotativne: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ki poimenujejo enote, ki sodijo pod določen poje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9933"/>
                </a:solidFill>
                <a:latin typeface="Verdana"/>
              </a:rPr>
              <a:t>Konotativne: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ki izrekajo bistveno vsebino pojm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Verdana"/>
              </a:rPr>
              <a:t>DEFINIRANJE POJMOV: VRSTE DEFINICIJ (2)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Primer denotativne in konotativne definicije pojma </a:t>
            </a: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“študent FSD”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9933"/>
                </a:solidFill>
                <a:latin typeface="Verdana"/>
              </a:rPr>
              <a:t>Denotativno: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seznam študento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9933"/>
                </a:solidFill>
                <a:latin typeface="Verdana"/>
              </a:rPr>
              <a:t>Konotativno: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Študent FSD je oseba, ki je v danem šol. letu vpisana na FSD. – Ali: … ki je bila vpisana, a še ni diplomirala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Verdana"/>
              </a:rPr>
              <a:t>DEFINIRANJE POJMOV: VRSTE DEFINICIJ (3)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5690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Primer denotativne in konotativne definicije pojma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“barakarsko naselje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Denotativno: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Barakarska naselja so naslednja: ulica a, hišna štev. p, r, s; ulica b, hiš. štev. t, u, v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Konotativno: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Barakarska naselja so naselja, sestavljena iz gradb. objektov iz priročega gradiva </a:t>
            </a: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(strukturalna def.),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namenjena začasnemu bivanju </a:t>
            </a: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(funkcionalna def.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Verdana"/>
              </a:rPr>
              <a:t>DEFINIRANJE POJMOV: VRSTE DEFINICIJ (4)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7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Denotativna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definicija poda obseg pojma ne pa njegove bistvene vsebin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Konotativna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definicija poda bistveno vsebino pojma in s tem tudi njegov obseg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DEFINIRANJE POJMOV: VRSTE KONOTATIVNIH DEFINICIJ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Nominaln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Realn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Operacionaln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EFINIR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VRSTE KONOTATIVNIH DEFINICIJ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Nominalna ali verbalna definici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-   etim. </a:t>
            </a:r>
            <a:r>
              <a:rPr b="0" i="1" lang="sl-SI" sz="2800" spc="-1" strike="noStrike">
                <a:solidFill>
                  <a:srgbClr val="006699"/>
                </a:solidFill>
                <a:latin typeface="Verdana"/>
              </a:rPr>
              <a:t>nomen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= im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postopek, v katerem damo nekemu pojmu ime (zamenjamo tujo ali manj znano besedo z domačo oz. bolj znano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primeri: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9933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9933"/>
                </a:solidFill>
                <a:latin typeface="Verdana"/>
              </a:rPr>
              <a:t>agresivnost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= napadalnos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9933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9933"/>
                </a:solidFill>
                <a:latin typeface="Verdana"/>
              </a:rPr>
              <a:t>integracija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= povezovanje, vključitev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9933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9933"/>
                </a:solidFill>
                <a:latin typeface="Verdana"/>
              </a:rPr>
              <a:t>IQ = inteligenčni kvocient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= količnik bistrost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EFINIR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VRSTE KONOTATIVNIH DEFINICIJ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Nominalna ali verbalna definici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Pomankljivost: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ne pove,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kaj je bistvo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napadalnosti, vključitve, bistrosti; kako bomo ugotovili, kdo je napadalen, vključen, bister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Prednost: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omogoči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približno razumevanje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tistemu, ki ne razume tujk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EFINIR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RSTE KONOTATIVNIH DEFINICIJ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. Realna definici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bičajna slovarska definicija: izrazimo pomen, vsebino, bistvo pojm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vedemo najbližji rod in posebne značilnost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4076640"/>
            <a:ext cx="2808360" cy="6426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DEFINIENDUM (kar je treba definirati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92360" y="4076640"/>
            <a:ext cx="2952720" cy="6426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DEFINIENS (s čimer definiramo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5229360"/>
            <a:ext cx="288108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Empatij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92360" y="5084640"/>
            <a:ext cx="3024360" cy="119124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Je </a:t>
            </a:r>
            <a:r>
              <a:rPr b="0" lang="en-US" sz="1800" spc="-1" strike="noStrike">
                <a:solidFill>
                  <a:srgbClr val="cc99ff"/>
                </a:solidFill>
                <a:latin typeface="Verdana"/>
              </a:rPr>
              <a:t>sposobnost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996633"/>
                </a:solidFill>
                <a:latin typeface="Verdana"/>
              </a:rPr>
              <a:t>vživetja v doživljanje druge osebe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, posledica tega vživetja pa je razumevanje drugeg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77080" y="4724280"/>
            <a:ext cx="1908000" cy="6426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Verdana"/>
              </a:rPr>
              <a:t>najbližji razred pojmov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48360" y="5877000"/>
            <a:ext cx="1944720" cy="6426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Verdana"/>
              </a:rPr>
              <a:t>posebne značilnosti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EFINIRANJE POJMOV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VRSTE KONOTATIVNIH DEFINICIJ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2. Realna definicija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9933"/>
                </a:solidFill>
                <a:latin typeface="Verdana"/>
              </a:rPr>
              <a:t>Struktura definicije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Integracija……………………….&gt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Je…………………………………..&gt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Družbeni proces vključevanja…, ………….…&gt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Neprisilno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z oblikovanjem… ……………..&gt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4080" y="1600200"/>
            <a:ext cx="40323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pojem, ki ga definiramo </a:t>
            </a:r>
            <a:r>
              <a:rPr b="0" lang="sl-SI" sz="2000" spc="-1" strike="noStrike">
                <a:solidFill>
                  <a:srgbClr val="cc99ff"/>
                </a:solidFill>
                <a:latin typeface="Verdana"/>
              </a:rPr>
              <a:t>(definiendum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Enačaj </a:t>
            </a:r>
            <a:r>
              <a:rPr b="0" lang="sl-SI" sz="2000" spc="-1" strike="noStrike">
                <a:solidFill>
                  <a:srgbClr val="cc99ff"/>
                </a:solidFill>
                <a:latin typeface="Verdana"/>
              </a:rPr>
              <a:t>(kopula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cc99ff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cc99ff"/>
                </a:solidFill>
                <a:latin typeface="Verdana"/>
              </a:rPr>
              <a:t>definiens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Najbližji nadrejeni pojem </a:t>
            </a:r>
            <a:r>
              <a:rPr b="0" lang="sl-SI" sz="2000" spc="-1" strike="noStrike">
                <a:solidFill>
                  <a:srgbClr val="cc99ff"/>
                </a:solidFill>
                <a:latin typeface="Verdana"/>
              </a:rPr>
              <a:t>(genus proximum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Posebnost, razlika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000" spc="-1" strike="noStrike">
                <a:solidFill>
                  <a:srgbClr val="cc99ff"/>
                </a:solidFill>
                <a:latin typeface="Verdana"/>
              </a:rPr>
              <a:t>(differentia specifica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em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Oblikovanje pojmov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Seznam relevantnih pojmo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Definiranje pojmo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Vrste definicij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Obrazci za operacionalne definicij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Razčlenjevanje sestavljenih pojmo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Pojmi, indikatorji in sestavljeni indeks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EFINIR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VRSTE KONOTATIVNIH DEFINICIJ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2. Realna definici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Primeri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Nevroza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je funkcionalna motnja doživljanja in vedenj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Agresivnost</a:t>
            </a:r>
            <a:r>
              <a:rPr b="0" lang="sl-SI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je</a:t>
            </a:r>
            <a:r>
              <a:rPr b="0" lang="sl-SI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značilnost medosebnega reagiranja, ki se izraža v doživljanju jeze, v prepirljivosti in kljubovanju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Integracija (socialna)</a:t>
            </a:r>
            <a:r>
              <a:rPr b="0" lang="sl-SI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je</a:t>
            </a:r>
            <a:r>
              <a:rPr b="0" lang="sl-SI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družbeni proces neprisilnega vključevanja posameznikov in skupin v širšo skupnost, z oblikovanjem skupnih vrednot in načinov ravnanj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EFINIR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RSTE KONOTATIVNIH DEFINICIJ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2. Realna definici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cc99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ne preozka in ne preširok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reširoko: “Socialni delavec je človek, ki je poklicno dejaven na področju socialnega varstva.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reozko: “Socialna delavka je oseba, ki je diplomirala na FSD.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cc99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ne navajamo nebistvenih značilnost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pr. “Rejenec je otrok, ki pomaga družini delati na polju.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EFINIR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RSTE KONOTATIVNIH DEFINICIJ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2. Realna definici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cc99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ne sme biti krožn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2708280"/>
            <a:ext cx="7056360" cy="22410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ocialno delo je strokovna dejavnost, s katero se ukvarjajo socialni delavci.” “Socialni delavec je strokovnjak, ki se ukvarja s socialnim delom.”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OREJ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cc99ff"/>
                </a:solidFill>
                <a:latin typeface="Verdana"/>
              </a:rPr>
              <a:t>Socialno delo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je strokovna dejavnost, s katero se ukvarjajo strokovnjaki, ki se ukvarjajo s </a:t>
            </a:r>
            <a:r>
              <a:rPr b="0" lang="en-US" sz="2000" spc="-1" strike="noStrike">
                <a:solidFill>
                  <a:srgbClr val="cc99ff"/>
                </a:solidFill>
                <a:latin typeface="Verdana"/>
              </a:rPr>
              <a:t>socialnim delom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.”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EFINIR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RSTE KONOTATIVNIH DEFINICIJ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2. Realna definici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cc99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ne sme biti negativna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ker povemo, kaj določen pojem ni in ne, kaj je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Zdravje je odsotnost bolezni.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cc99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Ne sme biti nejasna in v slikovitem jezik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lkoholizem je veliko družbeno zlo.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DEFINIRANJE POJMOV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5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VRSTE KONOTATIVNIH DEFINICIJ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2. Realna definici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Pravilo: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Palatino Linotype"/>
              </a:rPr>
              <a:t>Definitio fiat per genus proximum et differentiam specifica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Palatino Linotype"/>
              </a:rPr>
              <a:t>Definicija naj navede najbližji nadrejeni pojem in posebnost, po kateri se pojem, ki ga definiramo, razlikuje od drugih pojmov, ki sodijo pod isti nadrejeni poje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DEFINIRANJE POJMOV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VRSTE KONOTATIVNIH DEFINICIJ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2. Realna definici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Prednost: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Pove, pod kateri širši pojem sodi pojem, ki ga definiramo in kako se razlikuje od drugih pojmov, ki sodijo pod isti širši pojem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Pomanjkljivost: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Ne pove natančno, kako bomo presodili, ali imamo v konkretnem primeru opraviti s tisto značilnostjo; ali je konkreten učenec boljše ali slabše integriran v šolo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Da bi jo lahko uporabili v raziskavi, jo moramo konkretizirati v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operacionalno definicijo</a:t>
            </a: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EFINIR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VRSTE KONOTATIVNIH EFINICIJ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3. Operacionalna definici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pojem jasno in nedvoumno opredelimo, da bomo vedeli, o čem zbrati podatk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je definicija, ki navaja taka vidna znamenja prepoznavanja in postopke, po katerih ločimo eno lastnost ali predmet od drugeg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podamo navodila za prepoznavanje in merjenje kake lastnosti, objekta, dogodka, proces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EFINIR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VRSTE KONOTATIVNIH EFINICIJ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3. Operacionalna definici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Pravilo: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cc99ff"/>
                </a:solidFill>
                <a:latin typeface="Palatino Linotype"/>
              </a:rPr>
              <a:t>	</a:t>
            </a:r>
            <a:r>
              <a:rPr b="0" i="1" lang="sl-SI" sz="2800" spc="-1" strike="noStrike">
                <a:solidFill>
                  <a:srgbClr val="cc99ff"/>
                </a:solidFill>
                <a:latin typeface="Palatino Linotype"/>
              </a:rPr>
              <a:t>V empiričnih raziskavah pojme vedno definiramo operacionalno (namerno ali nenamerno). Postopek ugotavljanja prisotnosti in stopnje kake lastnosti je njena operacionalna definicij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EFINIR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RSTE KONOTATIVNIH DEFINICIJ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1700280"/>
            <a:ext cx="284292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REALNA DEFINICIJ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88000" y="1700280"/>
            <a:ext cx="316872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OPERACIONALNA DEF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5280" y="2708280"/>
            <a:ext cx="2881440" cy="17398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Verdana"/>
              </a:rPr>
              <a:t>Kohezivnost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je globalna lastnost skupine, ki pomeni </a:t>
            </a:r>
            <a:r>
              <a:rPr b="0" lang="en-US" sz="1800" spc="-1" strike="noStrike">
                <a:solidFill>
                  <a:srgbClr val="cc99ff"/>
                </a:solidFill>
                <a:latin typeface="Verdana"/>
              </a:rPr>
              <a:t>stopnjo celotne privlačnosti med člani v primerjavi s celotno odbojnostjo med njimi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9280" y="2637000"/>
            <a:ext cx="3241800" cy="20142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cc99ff"/>
                </a:solidFill>
                <a:latin typeface="Verdana"/>
              </a:rPr>
              <a:t>Kohezivnost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 skupine je </a:t>
            </a:r>
            <a:r>
              <a:rPr b="0" lang="sl-SI" sz="1800" spc="-1" strike="noStrike">
                <a:solidFill>
                  <a:srgbClr val="cc99ff"/>
                </a:solidFill>
                <a:latin typeface="Verdana"/>
              </a:rPr>
              <a:t>razmerje med številom obojestranskih izborov pri sociometrični anketi in celotnim številom možnih obojestranskih izborov v skupini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EFINIR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6699"/>
                </a:solidFill>
                <a:latin typeface="Verdana"/>
              </a:rPr>
              <a:t>VRSTE KONOTATIVNIH EFINICIJ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3. Operacionalna definici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Obrazci za operacionalne definicije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9933"/>
                </a:solidFill>
                <a:latin typeface="Verdana"/>
              </a:rPr>
              <a:t>lastnost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9933"/>
                </a:solidFill>
                <a:latin typeface="Verdana"/>
              </a:rPr>
              <a:t>objektov oz. oseb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9933"/>
                </a:solidFill>
                <a:latin typeface="Verdana"/>
              </a:rPr>
              <a:t>dogodkov in proceso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OBLIKOV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1700280"/>
            <a:ext cx="4103640" cy="20739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REDMET RAZISKAVE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Življenjski pogoji starih ljudi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Osebni dohodek delavcev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Vzgojni vzorci v družini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95640" y="4508640"/>
            <a:ext cx="4248360" cy="13341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OJMI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Značilnosti, dogodki in procesi, ki jih opisujemo z besedami, ki se nanašajo na misli o teh pojavih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EFINIR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3. Operacionalna definici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Obrazci za definicije </a:t>
            </a:r>
            <a:r>
              <a:rPr b="1" lang="sl-SI" sz="2800" spc="-1" strike="noStrike">
                <a:solidFill>
                  <a:srgbClr val="006699"/>
                </a:solidFill>
                <a:latin typeface="Verdana"/>
              </a:rPr>
              <a:t>LASTNOST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Definicija lastnosti mora povedati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cc99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kdo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je nosilec lastnosti, ki jo definiram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kakšno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vedenje/izjave o doživljanju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morajo biti prisotne, da sklepamo, da gre za lastnos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v kakšnih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pogojih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se ta lastnost izraz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2349360"/>
            <a:ext cx="9144000" cy="45972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bjekt x ima lastnost L, če pod pogoji P izraža vedenje V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EFINIR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3. Operacionalna definicij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Primer definicije </a:t>
            </a: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LASTNOST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Objekt x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Razvezani oč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Ima lastnost 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korektno vzdržuje stike z otrokom, ki je dodeljen materi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Če v pogojih P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če v primeru, ko ni oviran (če mu službene obveznosti, zdravstveno stanje, prometne in druge okoliščine to omogočajo)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Izraža vedenje V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prihaja otroka redno iskat v dogovorjenih presledkih; ob dogovorjeni uri; če ga ob dogovorjeni uri pripelje nazaj; če v času, ko je z njim, ustvari z njim odnos, ki je vzgojno produktiven; če svojo upravičeno zadržanost pravočasno vnaprej javi materi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EFINIR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3. Operacionalna definici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6699"/>
                </a:solidFill>
                <a:latin typeface="Verdana"/>
              </a:rPr>
              <a:t>Vrste lastnost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Individualne lastnosti: označujejo posameznika (starost, spol,..); povedo, kaj je (izobrazba); kaj (potuje, bere,…); v kakšnem odnosu je do nečesa (prijatelj, šef…); pripadnost skupini (Rom,…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Skupinske lastnosti: lastnosti, ki jih imajo realne družbene skupine ali zgolj statistične populacije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- agregativne ali analitične: lastnosti skupin ali posameznikov, ki jih izvedemo iz lastnosti posameznikov (odstotek žensk med študenti SD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- globalne ali integralne lastnosti: so lastnosti skupine kot celote (kohezivnost skupine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EFINIR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3. Operacionalna definici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Obrazci za definicije </a:t>
            </a: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OBJEKTO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Definicija objektov mora imeti tako obliko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- da lahko </a:t>
            </a: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za vsako posamezno osebo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ali predmet nedvoumno presodimo, </a:t>
            </a: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ali spada v določen razred oseb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ali predmetov, ali vanj ne spada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2349360"/>
            <a:ext cx="9144000" cy="45972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bjekt x spada v razred objektov X, če ima lastnosti L1, L2,….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EFINIR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3. Operacionalna definici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Primer definicije </a:t>
            </a: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OBJEKTO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Objekt x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Otrok j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Spada v razred objektov X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je novinec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Če ima lastnosti L1, L2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če manj kot 1 mesec obiskuje vrte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EFINIR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3. Operacionalna definicij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Vrste definicij objektov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Glede na vsebino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- strukturalne (iz česa, kako je objekt sestavljen): “Baraka je zgradba iz lesa pa tudi lepenke ali pločevine.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- funkcionalne (čemu objekt služi): “Baraka je stavba, ki služi za začasno bivanje.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2. Glede na obliko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- konotativne definicije (nujne in zadostne lastnosti, za uvrstitev v razred objektov): “Baraka je zasilna zgradba, ki služi začasnemu bivanju.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- denotativne definicije (naštejemo vse posamezne objekte, ki spadajo v ta razred): Barake so naslednje zgradbe: A, B, C…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EFINIR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3. Operacionalna definici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Obrazci za definicije </a:t>
            </a: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DOGODKO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Dogodek definiramo tako, da navedemo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katere lastnosti osebe ali predmeta so se spremenil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kakšne so nove lastnost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2349360"/>
            <a:ext cx="9144000" cy="8254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ogodek D se zgodi, če se lastnosti L1, L2,… objekta x spremenijo v lastnosti M1, M2…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EFINIR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3. Operacionalna definici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Primer definicije </a:t>
            </a: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DOGODK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Dogodek D se zgodi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Otrok zraste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Če se lastnosti L1, L2,…objekta X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če je bila njegova telesna višina prej nižja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Spremenijo v lastnosti M1, M2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kot je sedaj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EFINIR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3. Operacionalna definici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6699"/>
                </a:solidFill>
                <a:latin typeface="Verdana"/>
              </a:rPr>
              <a:t>Vrste dogodkov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Trenutni dogodek (kadar pride do trenutne spremembe kakega objekta ali lastnosti iz enega stanja v drugega): “sklenitev zakonske zveze” (posameznikov stan se spremeni iz ‘samskega’ v ‘poročenega’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Proces (kadar pride do spremembe kakega objekta ali lastnosti iz enega stanja v drugega, tako da si v časovnem zaporedju sledijo različna stanja): “rehabilitacija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EFINIR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3. Operacionalna definici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OPOMBA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Vse v primerih navedene definicije so lahko </a:t>
            </a: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vsebinsko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sporne, </a:t>
            </a: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formalno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pa so praviln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Definicije istega pojma so lahko od raziskave do raziskave različne. Npr. definicija </a:t>
            </a: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novinca v vrtcu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je lahko bolj ali manj stroga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Razprava o vsebini definicije je sestavni del raziskovanja. O formi definicije pa ni razprave: je lahko samo pravilna ali napačna oz. pomanjkljiv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OBLIKOVANJE IN DEFINIRANJE  POJMOV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KONCEPTUALIZACI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OBLIKOVANJE P.   DEFINIRANJE 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RAZČLENJEVANJ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(klasificiranje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komponent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66"/>
                </a:solidFill>
                <a:latin typeface="Verdana"/>
              </a:rPr>
              <a:t>denotativna d. konotativna d.</a:t>
            </a:r>
            <a:r>
              <a:rPr b="0" lang="sl-SI" sz="24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subkomponent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0" lang="sl-SI" sz="2400" spc="-1" strike="noStrike">
                <a:solidFill>
                  <a:srgbClr val="006666"/>
                </a:solidFill>
                <a:latin typeface="Verdana"/>
              </a:rPr>
              <a:t>(naštevanje)   (pogoji)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                 indikatorj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nominalna</a:t>
            </a: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realna  operacionaln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lastnosti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objektov dogodkov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Verdana"/>
              </a:rPr>
              <a:t>abstrahiranje</a:t>
            </a:r>
            <a:r>
              <a:rPr b="0" lang="sl-SI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ff3300"/>
                </a:solidFill>
                <a:latin typeface="Verdana"/>
              </a:rPr>
              <a:t>ekspliciranje</a:t>
            </a:r>
            <a:r>
              <a:rPr b="0" lang="sl-SI" sz="2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ff3300"/>
                </a:solidFill>
                <a:latin typeface="Verdana"/>
              </a:rPr>
              <a:t>     konkretiziranj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979280" y="1052640"/>
            <a:ext cx="1584360" cy="503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3280" y="1125360"/>
            <a:ext cx="0" cy="432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0360" y="1052640"/>
            <a:ext cx="720720" cy="5047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556000" y="2060640"/>
            <a:ext cx="1008000" cy="865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35280" y="2060640"/>
            <a:ext cx="720720" cy="792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627280" y="3716280"/>
            <a:ext cx="1008000" cy="43200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3716280"/>
            <a:ext cx="287280" cy="50328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84720" y="3716280"/>
            <a:ext cx="1511280" cy="43344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500720" y="4581360"/>
            <a:ext cx="576000" cy="358920"/>
          </a:xfrm>
          <a:prstGeom prst="line">
            <a:avLst/>
          </a:prstGeom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76720" y="4581360"/>
            <a:ext cx="358920" cy="358920"/>
          </a:xfrm>
          <a:prstGeom prst="line">
            <a:avLst/>
          </a:prstGeom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76720" y="4581360"/>
            <a:ext cx="2159280" cy="360360"/>
          </a:xfrm>
          <a:prstGeom prst="line">
            <a:avLst/>
          </a:prstGeom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EFINIR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3. Operacionalna definici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PRIMERI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9933"/>
                </a:solidFill>
                <a:latin typeface="Verdana"/>
              </a:rPr>
              <a:t>Pomoč na domu: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Oseba prejema pomoč na domu, če jo v okviru sklenjene pogodbe s CSD obiskuje socialna oskrbovalka in ji pomaga pri katerem koli opravilu osebne nege, gospodinjskih opravil in ohranjanju socialnih stikov po seznamu opravil na vprašalniku X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EFINIR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3. Operacionalna definici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PRIMERI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9933"/>
                </a:solidFill>
                <a:latin typeface="Verdana"/>
              </a:rPr>
              <a:t>Tvegano življenje mladostnika (ogroženost):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Mladostnik živi tvegano (je ogrožen), če prostovoljno bolj ali manj pogosto kadi, uživa alkohol, droge, ima nezaščitene spolne odnose … (dodamo lahko druge pogoje) – čim višji je njegov indeks na instrumentu X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EFINIR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3. Operacionalna definici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PRIMERI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9933"/>
                </a:solidFill>
                <a:latin typeface="Verdana"/>
              </a:rPr>
              <a:t>Etnocentizem: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Oseba je tem bolj etnocentrična, čim višje vrednoti svojo etnično skupnost (narod) v primerjavi z drugimi narodi glede kulturne razvitosti, gospodarske uspešnosti, ustreznosti političnega sistema … (lahko dodamo značilnosti) na ocenjevalnem instrumentu X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RAZČLENJEVANJE SESTAVLJENIH POJMOV: </a:t>
            </a: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splošna shema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0" y="2624040"/>
            <a:ext cx="9143640" cy="2109960"/>
            <a:chOff x="0" y="2624040"/>
            <a:chExt cx="9143640" cy="2109960"/>
          </a:xfrm>
        </p:grpSpPr>
        <p:cxnSp>
          <p:nvCxnSpPr>
            <p:cNvPr id="291" name="_s113670"/>
            <p:cNvCxnSpPr>
              <a:stCxn id="292" idx="0"/>
              <a:endCxn id="293" idx="2"/>
            </p:cNvCxnSpPr>
            <p:nvPr/>
          </p:nvCxnSpPr>
          <p:spPr>
            <a:xfrm flipV="1" rot="16200000">
              <a:off x="7970760" y="3771720"/>
              <a:ext cx="229320" cy="780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294" name="_s113671"/>
            <p:cNvCxnSpPr>
              <a:stCxn id="295" idx="0"/>
              <a:endCxn id="293" idx="2"/>
            </p:cNvCxnSpPr>
            <p:nvPr/>
          </p:nvCxnSpPr>
          <p:spPr>
            <a:xfrm flipH="1" flipV="1" rot="5400000">
              <a:off x="7190280" y="3771360"/>
              <a:ext cx="229320" cy="781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296" name="_s113672"/>
            <p:cNvCxnSpPr>
              <a:stCxn id="297" idx="0"/>
              <a:endCxn id="298" idx="2"/>
            </p:cNvCxnSpPr>
            <p:nvPr/>
          </p:nvCxnSpPr>
          <p:spPr>
            <a:xfrm flipV="1" rot="16200000">
              <a:off x="1726200" y="3771720"/>
              <a:ext cx="229320" cy="780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299" name="_s113673"/>
            <p:cNvCxnSpPr>
              <a:stCxn id="300" idx="0"/>
              <a:endCxn id="298" idx="2"/>
            </p:cNvCxnSpPr>
            <p:nvPr/>
          </p:nvCxnSpPr>
          <p:spPr>
            <a:xfrm flipH="1" flipV="1" rot="5400000">
              <a:off x="945720" y="3771360"/>
              <a:ext cx="229320" cy="781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01" name="_s113674"/>
            <p:cNvCxnSpPr>
              <a:stCxn id="302" idx="0"/>
              <a:endCxn id="303" idx="2"/>
            </p:cNvCxnSpPr>
            <p:nvPr/>
          </p:nvCxnSpPr>
          <p:spPr>
            <a:xfrm flipV="1" rot="16200000">
              <a:off x="4848480" y="3771720"/>
              <a:ext cx="229320" cy="780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04" name="_s113675"/>
            <p:cNvCxnSpPr>
              <a:stCxn id="305" idx="0"/>
              <a:endCxn id="303" idx="2"/>
            </p:cNvCxnSpPr>
            <p:nvPr/>
          </p:nvCxnSpPr>
          <p:spPr>
            <a:xfrm flipH="1" flipV="1" rot="5400000">
              <a:off x="4068000" y="3771360"/>
              <a:ext cx="229320" cy="781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06" name="_s113676"/>
            <p:cNvCxnSpPr>
              <a:stCxn id="293" idx="0"/>
              <a:endCxn id="307" idx="2"/>
            </p:cNvCxnSpPr>
            <p:nvPr/>
          </p:nvCxnSpPr>
          <p:spPr>
            <a:xfrm flipV="1" rot="16200000">
              <a:off x="6018840" y="1632960"/>
              <a:ext cx="229320" cy="3124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08" name="_s113677"/>
            <p:cNvCxnSpPr>
              <a:stCxn id="303" idx="0"/>
              <a:endCxn id="307" idx="2"/>
            </p:cNvCxnSpPr>
            <p:nvPr/>
          </p:nvCxnSpPr>
          <p:spPr>
            <a:xfrm flipV="1" rot="16200000">
              <a:off x="4457520" y="3194280"/>
              <a:ext cx="229320" cy="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09" name="_s113678"/>
            <p:cNvCxnSpPr>
              <a:stCxn id="298" idx="0"/>
              <a:endCxn id="307" idx="2"/>
            </p:cNvCxnSpPr>
            <p:nvPr/>
          </p:nvCxnSpPr>
          <p:spPr>
            <a:xfrm flipH="1" flipV="1" rot="5400000">
              <a:off x="2896920" y="1634400"/>
              <a:ext cx="229320" cy="3121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6699"/>
              </a:solidFill>
              <a:miter/>
            </a:ln>
          </p:spPr>
        </p:cxnSp>
        <p:sp>
          <p:nvSpPr>
            <p:cNvPr id="307" name="_s113679"/>
            <p:cNvSpPr/>
            <p:nvPr/>
          </p:nvSpPr>
          <p:spPr>
            <a:xfrm>
              <a:off x="3736440" y="2624040"/>
              <a:ext cx="1671120" cy="4572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ff"/>
                  </a:solidFill>
                  <a:latin typeface="Tahoma"/>
                </a:rPr>
                <a:t>Sestavljeni pojem</a:t>
              </a: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8" name="_s113680"/>
            <p:cNvSpPr/>
            <p:nvPr/>
          </p:nvSpPr>
          <p:spPr>
            <a:xfrm>
              <a:off x="739440" y="3309840"/>
              <a:ext cx="1421640" cy="7383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ff"/>
                  </a:solidFill>
                  <a:latin typeface="Tahoma"/>
                </a:rPr>
                <a:t>Komponenta 1</a:t>
              </a: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3" name="_s113681"/>
            <p:cNvSpPr/>
            <p:nvPr/>
          </p:nvSpPr>
          <p:spPr>
            <a:xfrm>
              <a:off x="3861720" y="3309840"/>
              <a:ext cx="1421640" cy="7383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ff"/>
                  </a:solidFill>
                  <a:latin typeface="Tahoma"/>
                </a:rPr>
                <a:t>Komponenta 2</a:t>
              </a: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3" name="_s113682"/>
            <p:cNvSpPr/>
            <p:nvPr/>
          </p:nvSpPr>
          <p:spPr>
            <a:xfrm>
              <a:off x="6984000" y="3309840"/>
              <a:ext cx="1421640" cy="7383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ff"/>
                  </a:solidFill>
                  <a:latin typeface="Tahoma"/>
                </a:rPr>
                <a:t>Komponenta 3</a:t>
              </a: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5" name="_s113683"/>
            <p:cNvSpPr/>
            <p:nvPr/>
          </p:nvSpPr>
          <p:spPr>
            <a:xfrm>
              <a:off x="3122640" y="4276800"/>
              <a:ext cx="1337400" cy="4572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ff"/>
                  </a:solidFill>
                  <a:latin typeface="Tahoma"/>
                </a:rPr>
                <a:t>Indikator 3</a:t>
              </a: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2" name="_s113684"/>
            <p:cNvSpPr/>
            <p:nvPr/>
          </p:nvSpPr>
          <p:spPr>
            <a:xfrm>
              <a:off x="4683600" y="4276800"/>
              <a:ext cx="1337760" cy="4572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ff"/>
                  </a:solidFill>
                  <a:latin typeface="Tahoma"/>
                </a:rPr>
                <a:t>Indikator 4</a:t>
              </a: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0" name="_s113685"/>
            <p:cNvSpPr/>
            <p:nvPr/>
          </p:nvSpPr>
          <p:spPr>
            <a:xfrm>
              <a:off x="0" y="4276800"/>
              <a:ext cx="1337760" cy="4572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ff"/>
                  </a:solidFill>
                  <a:latin typeface="Tahoma"/>
                </a:rPr>
                <a:t>Indikator 1</a:t>
              </a: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7" name="_s113686"/>
            <p:cNvSpPr/>
            <p:nvPr/>
          </p:nvSpPr>
          <p:spPr>
            <a:xfrm>
              <a:off x="1561320" y="4276800"/>
              <a:ext cx="1337760" cy="4572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ff"/>
                  </a:solidFill>
                  <a:latin typeface="Tahoma"/>
                </a:rPr>
                <a:t>Indikator 2</a:t>
              </a: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5" name="_s113687"/>
            <p:cNvSpPr/>
            <p:nvPr/>
          </p:nvSpPr>
          <p:spPr>
            <a:xfrm>
              <a:off x="6244920" y="4276800"/>
              <a:ext cx="1337400" cy="4572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ff"/>
                  </a:solidFill>
                  <a:latin typeface="Tahoma"/>
                </a:rPr>
                <a:t>Indikator 5</a:t>
              </a: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2" name="_s113688"/>
            <p:cNvSpPr/>
            <p:nvPr/>
          </p:nvSpPr>
          <p:spPr>
            <a:xfrm>
              <a:off x="7805880" y="4276800"/>
              <a:ext cx="1337760" cy="4572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ff"/>
                  </a:solidFill>
                  <a:latin typeface="Tahoma"/>
                </a:rPr>
                <a:t>Indikator 6</a:t>
              </a: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RAZČLENJEV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SESTAVLJENI POJMI: sestojijo iz več drugih pojmov (‘zdravstveno stanje’, ‘kvaliteta življenja’, ‘socialno ekonomski status’) in jih lahko definiramo šele, ko jih prej razčlenimo na sestavne pojm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324000" y="2781360"/>
            <a:ext cx="2519280" cy="314604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KAKOVOST ŽIVLJENJ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Dohodek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cc99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cc99ff"/>
                </a:solidFill>
                <a:latin typeface="Verdana"/>
              </a:rPr>
              <a:t>Zdravstveno stanj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Stanovanjske razmer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Družinske razmer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Delovne razmer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Prosti ča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48000" y="3357720"/>
            <a:ext cx="2303640" cy="2717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cc99ff"/>
                </a:solidFill>
                <a:latin typeface="Verdana"/>
              </a:rPr>
              <a:t>ZDRAVSTVENO STANJ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66"/>
                </a:solidFill>
                <a:latin typeface="Verdana"/>
              </a:rPr>
              <a:t>Splošni zdravstveni statu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Funkcionalni statu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Zdravstveno ravnanj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156360" y="3357720"/>
            <a:ext cx="2519280" cy="2717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66"/>
                </a:solidFill>
                <a:latin typeface="Verdana"/>
              </a:rPr>
              <a:t>Splošni zdravstveni status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Zdravnikova ocena zdr. stanj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Samoocena zdr. stanj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Število kroničnih bolezni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RAZČLENJEV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INDIKATORJI IN INDEKS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INDIKATOR – kazalec, preko katerega ugotavljamo določeno lastnost, ki ni neposredno vidn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reprostejša značilnost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→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Times New Roman"/>
              </a:rPr>
              <a:t>en indikato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Times New Roman"/>
              </a:rPr>
              <a:t>                    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  <a:ea typeface="Times New Roman"/>
              </a:rPr>
              <a:t>dohodek </a:t>
            </a:r>
            <a:r>
              <a:rPr b="0" i="1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  <a:ea typeface="Times New Roman"/>
              </a:rPr>
              <a:t>znesek plač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Times New Roman"/>
              </a:rPr>
              <a:t>Sestavljena značilnost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Times New Roman"/>
              </a:rPr>
              <a:t> več indikatorjev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Times New Roman"/>
              </a:rPr>
              <a:t>družbeni status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→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Times New Roman"/>
              </a:rPr>
              <a:t>skupni dohodek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Times New Roman"/>
              </a:rPr>
              <a:t>stopnja izobrazb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→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Times New Roman"/>
              </a:rPr>
              <a:t>premoženje v nepremičnina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  <a:ea typeface="Times New Roman"/>
              </a:rPr>
              <a:t>INDEKS – dobljena (skupna) ocena po več indikatorji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RAZČLENJEVANJE SESTAVLJENIH POJMOV: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primer </a:t>
            </a: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zdravstveno stanje (1)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0" y="2666520"/>
            <a:ext cx="9143640" cy="2290680"/>
            <a:chOff x="0" y="2666520"/>
            <a:chExt cx="9143640" cy="2290680"/>
          </a:xfrm>
        </p:grpSpPr>
        <p:cxnSp>
          <p:nvCxnSpPr>
            <p:cNvPr id="319" name="_s114693"/>
            <p:cNvCxnSpPr>
              <a:stCxn id="320" idx="0"/>
              <a:endCxn id="321" idx="2"/>
            </p:cNvCxnSpPr>
            <p:nvPr/>
          </p:nvCxnSpPr>
          <p:spPr>
            <a:xfrm flipV="1" rot="16200000">
              <a:off x="2465640" y="3527280"/>
              <a:ext cx="228960" cy="13294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22" name="_s114694"/>
            <p:cNvCxnSpPr>
              <a:stCxn id="323" idx="0"/>
              <a:endCxn id="324" idx="2"/>
            </p:cNvCxnSpPr>
            <p:nvPr/>
          </p:nvCxnSpPr>
          <p:spPr>
            <a:xfrm flipV="1" rot="16200000">
              <a:off x="8109360" y="3858840"/>
              <a:ext cx="228960" cy="6663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25" name="_s114695"/>
            <p:cNvCxnSpPr>
              <a:stCxn id="326" idx="0"/>
              <a:endCxn id="324" idx="2"/>
            </p:cNvCxnSpPr>
            <p:nvPr/>
          </p:nvCxnSpPr>
          <p:spPr>
            <a:xfrm flipH="1" flipV="1" rot="5400000">
              <a:off x="7444440" y="3860640"/>
              <a:ext cx="228960" cy="6631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27" name="_s114696"/>
            <p:cNvCxnSpPr>
              <a:stCxn id="328" idx="0"/>
              <a:endCxn id="321" idx="2"/>
            </p:cNvCxnSpPr>
            <p:nvPr/>
          </p:nvCxnSpPr>
          <p:spPr>
            <a:xfrm flipV="1">
              <a:off x="1915920" y="4077720"/>
              <a:ext cx="1440" cy="22896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29" name="_s114697"/>
            <p:cNvCxnSpPr>
              <a:stCxn id="330" idx="0"/>
              <a:endCxn id="321" idx="2"/>
            </p:cNvCxnSpPr>
            <p:nvPr/>
          </p:nvCxnSpPr>
          <p:spPr>
            <a:xfrm flipH="1" flipV="1" rot="5400000">
              <a:off x="1137600" y="3528360"/>
              <a:ext cx="228960" cy="13273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31" name="_s114698"/>
            <p:cNvCxnSpPr>
              <a:stCxn id="332" idx="0"/>
              <a:endCxn id="333" idx="2"/>
            </p:cNvCxnSpPr>
            <p:nvPr/>
          </p:nvCxnSpPr>
          <p:spPr>
            <a:xfrm flipV="1" rot="16200000">
              <a:off x="5453280" y="3859200"/>
              <a:ext cx="228960" cy="6652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34" name="_s114699"/>
            <p:cNvCxnSpPr>
              <a:stCxn id="335" idx="0"/>
              <a:endCxn id="333" idx="2"/>
            </p:cNvCxnSpPr>
            <p:nvPr/>
          </p:nvCxnSpPr>
          <p:spPr>
            <a:xfrm flipH="1" flipV="1" rot="5400000">
              <a:off x="4788720" y="3860640"/>
              <a:ext cx="228960" cy="6631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36" name="_s114700"/>
            <p:cNvCxnSpPr>
              <a:stCxn id="324" idx="0"/>
              <a:endCxn id="337" idx="2"/>
            </p:cNvCxnSpPr>
            <p:nvPr/>
          </p:nvCxnSpPr>
          <p:spPr>
            <a:xfrm flipV="1" rot="16200000">
              <a:off x="6117120" y="1562760"/>
              <a:ext cx="228960" cy="331920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38" name="_s114701"/>
            <p:cNvCxnSpPr>
              <a:stCxn id="333" idx="0"/>
              <a:endCxn id="337" idx="2"/>
            </p:cNvCxnSpPr>
            <p:nvPr/>
          </p:nvCxnSpPr>
          <p:spPr>
            <a:xfrm flipV="1" rot="16200000">
              <a:off x="4789080" y="2890800"/>
              <a:ext cx="228960" cy="6631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39" name="_s114702"/>
            <p:cNvCxnSpPr>
              <a:stCxn id="321" idx="0"/>
              <a:endCxn id="337" idx="2"/>
            </p:cNvCxnSpPr>
            <p:nvPr/>
          </p:nvCxnSpPr>
          <p:spPr>
            <a:xfrm flipH="1" flipV="1" rot="5400000">
              <a:off x="3129480" y="1893960"/>
              <a:ext cx="228960" cy="26571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6699"/>
              </a:solidFill>
              <a:miter/>
            </a:ln>
          </p:spPr>
        </p:cxnSp>
        <p:sp>
          <p:nvSpPr>
            <p:cNvPr id="337" name="_s114703"/>
            <p:cNvSpPr/>
            <p:nvPr/>
          </p:nvSpPr>
          <p:spPr>
            <a:xfrm>
              <a:off x="3778920" y="2666520"/>
              <a:ext cx="1584720" cy="44172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120" rIns="3312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ahoma"/>
                </a:rPr>
                <a:t>Zdravstveno stanje</a:t>
              </a:r>
              <a:endParaRPr b="0" lang="en-US" sz="1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1" name="_s114704"/>
            <p:cNvSpPr/>
            <p:nvPr/>
          </p:nvSpPr>
          <p:spPr>
            <a:xfrm>
              <a:off x="1150560" y="3337200"/>
              <a:ext cx="1531080" cy="74088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120" rIns="3312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Tahoma"/>
                </a:rPr>
                <a:t>Komponenta 1</a:t>
              </a:r>
              <a:endParaRPr b="0" lang="en-US" sz="9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Tahoma"/>
                </a:rPr>
                <a:t>Splošni status</a:t>
              </a:r>
              <a:endParaRPr b="0" lang="en-US" sz="1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3" name="_s114705"/>
            <p:cNvSpPr/>
            <p:nvPr/>
          </p:nvSpPr>
          <p:spPr>
            <a:xfrm>
              <a:off x="4470120" y="3337200"/>
              <a:ext cx="1531080" cy="74088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120" rIns="3312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Tahoma"/>
                </a:rPr>
                <a:t>Komponenta 2</a:t>
              </a:r>
              <a:endParaRPr b="0" lang="en-US" sz="10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Tahoma"/>
                </a:rPr>
                <a:t>Funkcionalni status</a:t>
              </a:r>
              <a:endParaRPr b="0" lang="en-US" sz="10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4" name="_s114706"/>
            <p:cNvSpPr/>
            <p:nvPr/>
          </p:nvSpPr>
          <p:spPr>
            <a:xfrm>
              <a:off x="7125840" y="3337200"/>
              <a:ext cx="1531080" cy="74088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120" rIns="3312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0000ff"/>
                  </a:solidFill>
                  <a:latin typeface="Tahoma"/>
                </a:rPr>
                <a:t>Komponenta 3</a:t>
              </a:r>
              <a:endParaRPr b="0" lang="en-US" sz="10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0000ff"/>
                  </a:solidFill>
                  <a:latin typeface="Tahoma"/>
                </a:rPr>
                <a:t>Zdr. ravnanje</a:t>
              </a:r>
              <a:endParaRPr b="0" lang="en-US" sz="10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5" name="_s114707"/>
            <p:cNvSpPr/>
            <p:nvPr/>
          </p:nvSpPr>
          <p:spPr>
            <a:xfrm>
              <a:off x="3983400" y="4306680"/>
              <a:ext cx="1176840" cy="65052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120" rIns="3312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0000ff"/>
                  </a:solidFill>
                  <a:latin typeface="Tahoma"/>
                </a:rPr>
                <a:t>Indikator 4</a:t>
              </a:r>
              <a:endParaRPr b="0" lang="en-US" sz="10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0000ff"/>
                  </a:solidFill>
                  <a:latin typeface="Tahoma"/>
                </a:rPr>
                <a:t>Sposob. ON</a:t>
              </a:r>
              <a:endParaRPr b="0" lang="en-US" sz="1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2" name="_s114708"/>
            <p:cNvSpPr/>
            <p:nvPr/>
          </p:nvSpPr>
          <p:spPr>
            <a:xfrm>
              <a:off x="5311080" y="4306680"/>
              <a:ext cx="1176840" cy="65052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120" rIns="3312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0000ff"/>
                  </a:solidFill>
                  <a:latin typeface="Tahoma"/>
                </a:rPr>
                <a:t>Indikator 5</a:t>
              </a:r>
              <a:endParaRPr b="0" lang="en-US" sz="10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0000ff"/>
                  </a:solidFill>
                  <a:latin typeface="Tahoma"/>
                </a:rPr>
                <a:t>Sposob. GO</a:t>
              </a:r>
              <a:endParaRPr b="0" lang="en-US" sz="10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0" name="_s114709"/>
            <p:cNvSpPr/>
            <p:nvPr/>
          </p:nvSpPr>
          <p:spPr>
            <a:xfrm>
              <a:off x="0" y="4306680"/>
              <a:ext cx="1176840" cy="65052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120" rIns="3312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0000ff"/>
                  </a:solidFill>
                  <a:latin typeface="Tahoma"/>
                </a:rPr>
                <a:t>Indikator 1</a:t>
              </a:r>
              <a:endParaRPr b="0" lang="en-US" sz="10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000" spc="-1" strike="noStrike">
                  <a:solidFill>
                    <a:srgbClr val="0000ff"/>
                  </a:solidFill>
                  <a:latin typeface="Tahoma"/>
                </a:rPr>
                <a:t>Zdr. ocena</a:t>
              </a:r>
              <a:endParaRPr b="0" lang="en-US" sz="1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8" name="_s114710"/>
            <p:cNvSpPr/>
            <p:nvPr/>
          </p:nvSpPr>
          <p:spPr>
            <a:xfrm>
              <a:off x="1327680" y="4306680"/>
              <a:ext cx="1176840" cy="65052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120" rIns="3312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Tahoma"/>
                </a:rPr>
                <a:t>Indikator 2</a:t>
              </a:r>
              <a:endParaRPr b="0" lang="en-US" sz="10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Tahoma"/>
                </a:rPr>
                <a:t>samoocena</a:t>
              </a:r>
              <a:endParaRPr b="0" lang="en-US" sz="1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6" name="_s114711"/>
            <p:cNvSpPr/>
            <p:nvPr/>
          </p:nvSpPr>
          <p:spPr>
            <a:xfrm>
              <a:off x="6639120" y="4306680"/>
              <a:ext cx="1176840" cy="65052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Tahoma"/>
                </a:rPr>
                <a:t>Indikator 6</a:t>
              </a:r>
              <a:endParaRPr b="0" lang="en-US" sz="10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Tahoma"/>
                </a:rPr>
                <a:t>Obisk zdravnika</a:t>
              </a:r>
              <a:endParaRPr b="0" lang="en-US" sz="1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3" name="_s114712"/>
            <p:cNvSpPr/>
            <p:nvPr/>
          </p:nvSpPr>
          <p:spPr>
            <a:xfrm>
              <a:off x="7966800" y="4306680"/>
              <a:ext cx="1176840" cy="65052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080" rIns="3708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Tahoma"/>
                </a:rPr>
                <a:t>Indikator 7</a:t>
              </a:r>
              <a:endParaRPr b="0" lang="en-US" sz="10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ahoma"/>
                </a:rPr>
                <a:t>dieta</a:t>
              </a:r>
              <a:endParaRPr b="0" lang="en-US" sz="1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0" name="_s114713"/>
            <p:cNvSpPr/>
            <p:nvPr/>
          </p:nvSpPr>
          <p:spPr>
            <a:xfrm>
              <a:off x="2655360" y="4306680"/>
              <a:ext cx="1176840" cy="65052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Tahoma"/>
                </a:rPr>
                <a:t>Indikator 3</a:t>
              </a:r>
              <a:endParaRPr b="0" lang="en-US" sz="10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Tahoma"/>
                </a:rPr>
                <a:t>Št. bolezni</a:t>
              </a:r>
              <a:endParaRPr b="0" lang="en-US" sz="10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1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RAZČLENJEVANJE SESTAVLJENIH POJMOV: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primer </a:t>
            </a: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zdravstveno stanje (2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SPLOŠNI STATU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Verdana"/>
              </a:rPr>
              <a:t>ZDRAVNIKOVA OCENA ZDRAV. STANJ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- “Prosim, da ocenite zdravstveno stanje te osebe”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3-odlično; 2-dobro; 1-zadovoljivo; -1-slabo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Verdana"/>
              </a:rPr>
              <a:t>SAMOOCENA ZDRAV. STANJ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- “Prosim, da ocenite svoje zdravstveno stanje? Kako se počutite?”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3-odlično; 2-dobro; 1-zadovoljivo; -1-slabo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Verdana"/>
              </a:rPr>
              <a:t>ŠTEVILO KRONIČNIH STANJ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li imate katere od naslednjih kroničnih bolezni? Imate kako drugo kronično bolezen?”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(seznam 7 bolezni – vsaka -1 točka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RAZČLENJEVANJE SESTAVLJENIH POJMOV: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primer </a:t>
            </a: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zdravstveno stanje (3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3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B. </a:t>
            </a: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FUNKCIONALNI STATUS (sposobnost za vsakdanja opravila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6040" indent="-5360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Verdana"/>
              </a:rPr>
              <a:t>SPOSOBNOST ZA OPRAVILA OSEBNE NEG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3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3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- “Ali lahko sami brez pomoči opravljate naslednja opravila”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osebna nega, oblačenje, hoja, hranjenje, nadzoruje izločanje, orientacija v prostoru, kopanje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(vsako opravilo 1 točka)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6040" indent="-5360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Verdana"/>
              </a:rPr>
              <a:t>SPOSOBNOST ZA GOSPODINJSKA OPRAVIL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3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3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Ali lahko sami brez pomoči opravljate naslednja opravila”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telefonira, gre po stopnicah gor, nakupovanje špecerije, pripravljanje hrane, pospravljanje stanovanja, čiščenje stanovanja, pranje perila, upravljanje z denarjem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(vsako opravilo 1 točka)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6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536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536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 marL="536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RAZČLENJEVANJE SESTAVLJENIH POJMOV: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primer </a:t>
            </a: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zdravstveno stanje (4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Font typeface="Verdan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ZDRAVSTVENO RAVNANJ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OBISKOVANJE ZDRAVNIK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li ste bili v zadnjem mesecu (letu) kaj pri zdravniku?”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e +1; da -1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DIET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li potrebujete dietno prehrano?” ne +1; da -1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MEDIKACIJA (JEMANJE ZDRAVIL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li vam je zdravnik predpisal kaka zdravila?” ne +1; da -1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HOSPITALIZACIJ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li ste bili v preteklem letu kaj v bolnišnici?” ne +1; da -1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ŠTEV. DNI V POSTELJI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li ste bili v zadnjem letu kdaj zaradi bolezni v postelji?”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e +1; do 3 -1; 4-6 -2; 7 in več -3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OBLIKOVANJE POJMOV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= konstruiranje abstraktnih pojmov iz konkretnih opažanj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snovni postopek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 kvalitativn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analize, ko pojme šele oblikujemo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i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kvantitativnih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raziskavah izhajamo iz seznama že znanih pojmov (značilnosti), ki jih merimo in ugotavljamo odnose med njimi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4427640" cy="29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estavljeni indeks zdravstvenega 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tanj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7" name="Document"/>
          <p:cNvSpPr/>
          <p:nvPr/>
        </p:nvSpPr>
        <p:spPr>
          <a:xfrm>
            <a:off x="4427640" y="0"/>
            <a:ext cx="4573440" cy="6237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716360" y="260280"/>
            <a:ext cx="424836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Oseba A: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SESTAVLJENI INDEKS ZDRAVSTVENEGA STANJ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Točk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Zdrav. Ocena</a:t>
            </a: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Samoocena</a:t>
            </a: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Štev. bolezni</a:t>
            </a: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-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Opravila oseb. nege</a:t>
            </a: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Gospodinjska opravila</a:t>
            </a: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Obisk. Zdravnika</a:t>
            </a: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-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Medikacija</a:t>
            </a: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-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Hospitalizacija</a:t>
            </a: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-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Štev. dni v postelji</a:t>
            </a: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-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INDEKS</a:t>
            </a: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sl-SI" sz="1800" spc="-1" strike="noStrike">
                <a:solidFill>
                  <a:srgbClr val="cc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cc0000"/>
                </a:solidFill>
                <a:latin typeface="Tahoma"/>
              </a:rPr>
              <a:t>MOŽNI RAZPON IND. -16 do +2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30592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estavljeni indeks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dopustljive vzgoje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0" name="Document"/>
          <p:cNvSpPr/>
          <p:nvPr/>
        </p:nvSpPr>
        <p:spPr>
          <a:xfrm>
            <a:off x="3132000" y="0"/>
            <a:ext cx="6012000" cy="6858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03640" y="0"/>
            <a:ext cx="5940360" cy="80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Sestavljeni indeks dopustljivosti v vzgoji (DRUŽINA N.)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TOČKOVANJE  TOČKE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DA 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NE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ahoma"/>
              </a:rPr>
              <a:t>DOPUŠČANJE IZRAŽANJA NEGATIVNIH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ahoma"/>
              </a:rPr>
              <a:t>ČUSTEV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Lahko pove materi, če mu ni kaj prav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Lahko pove očetu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ahoma"/>
              </a:rPr>
              <a:t>DOPUŠČANJE NESPREJEMLJIVIH VEDENJ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cc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Sme priti kasneje domov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cc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Sme iti spat kasneje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ahoma"/>
              </a:rPr>
              <a:t>SOODLOČANJE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cc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O obleki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cc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O družbi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ahoma"/>
              </a:rPr>
              <a:t>NEKAZNOVALNOST (Mati)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Se krega, vpije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-reče, da žalostna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cc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Skupaj točk =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cc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ahoma"/>
              </a:rPr>
              <a:t>INDEKS DOPUSTLJIVOSTI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ahoma"/>
              </a:rPr>
              <a:t>MOŽNI RAZPON INDEKSA: </a:t>
            </a:r>
            <a:r>
              <a:rPr b="1" lang="en-US" sz="16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cc0000"/>
                </a:solidFill>
                <a:latin typeface="Tahoma"/>
              </a:rPr>
              <a:t>od 0 do 8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Ta družina je na zgornji četrtini razpona = precej dopustljiva.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RAZČLENJEV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Primer indikatorjev za mere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socialne podpore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pri stari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Pri vsaki od navedenih postavk oceni, kako pogosto se pojavlja pri respondentu ta oblika socialne podpore: nikoli (1), včasih (2), pogosto (3) , (zelo pogosto (4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PODPORA, KI JO OSEBA PREJEMA OD DRUGI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- STVARNA PODPOR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- Drugi mu je (respondentu) pomagal pri prevozu.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- Drugi mu je pomagal pri gospodinjskih opravilih in delu na vrtu.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3 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4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- Drugi mu je pomagal pri nakupovanju.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RAZČLENJEV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Primer indikatorjev za mere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socialne podpore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pri stari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Pri vsaki od navedenih postavk oceni, kako pogosto se pojavlja pri respondentu ta oblika socialne podpore: nikoli (1), včasih (2), pogosto (3) , (zelo pogosto (4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PODPORA, KI JO OSEBA PREJEMA OD DRUGI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EMOCIONALNA PODPOR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- Drugi mu je stal ob strani, ko mu je bilo hudo.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- Drugi ga je tolažil.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- Drugi mu je prisluhnil, ko je govoril o svojih čustvih.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- Drugi se je zanimal zanj; ga je skrbelo zanj.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RAZČLENJEVANJE POJMO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Primer indikatorjev za mere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socialne podpore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pri stari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Pri vsaki od navedenih postavk oceni, kako pogosto se pojavlja pri respondentu ta oblika socialne podpore: nikoli (1), včasih (2), pogosto (3) , (zelo pogosto (4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PODPORA, KI JO OSEBA PREJEMA OD DRUGI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INFORMACIJSKA PODPOR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- Drugi mu je predlagal, kako naj reši svojo težavo.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- Drugi mu je pomagal razumeti težko situacijo.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- Drugi mu je pomagal razumeti, zakaj je storil nekaj narobe.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- Drugi mu je povedal, kaj je on storil v podobnem položaju.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&gt;Preglednica spremenljivk (pojmov) in njihovih definicij (iz različnih raziskav)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9640" y="1341360"/>
          <a:ext cx="8424720" cy="5210280"/>
        </p:xfrm>
        <a:graphic>
          <a:graphicData uri="http://schemas.openxmlformats.org/drawingml/2006/table">
            <a:tbl>
              <a:tblPr/>
              <a:tblGrid>
                <a:gridCol w="2809080"/>
                <a:gridCol w="2806920"/>
                <a:gridCol w="2808720"/>
              </a:tblGrid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PREMENLJIVKA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EFINICIJA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MODALITETE,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VREDNOSTI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TAROST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Zadnje dopolnjeno leto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0 - nedoločeno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ZOBRAZBA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Število končanih letnikov šolanja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0 - 2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Zadnja končana šolska stopnja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Nedokon. OŠ, OŠ, SŠ,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ViŠ, VIS., UNIV., MAG, DR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DELOVNA DOBA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Skupno trajanje vseh zaposlitev, od katerih so delodajalci plačevali prispevke (zaokr. leto)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0 – 40 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OBLIKOVANJE POJMOV 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Primer: 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Pojmi za sloge vodenja skupin (1)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Postopek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(po Lippit in White)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Prostočasni krožki učence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Opazovanje interakcij med vodjem in učenci, zapisovanj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Klasificiranje opisov po podobnosti, primerjanje opiso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Abstrahiranje bistvene značilnosti vode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Poimenovanje te značilnost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OBLIKOVANJE POJMOV Primer:Pojmi za sloge vodenja (2)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1125360"/>
          <a:ext cx="8569440" cy="5661360"/>
        </p:xfrm>
        <a:graphic>
          <a:graphicData uri="http://schemas.openxmlformats.org/drawingml/2006/table">
            <a:tbl>
              <a:tblPr/>
              <a:tblGrid>
                <a:gridCol w="2143080"/>
                <a:gridCol w="2141640"/>
                <a:gridCol w="2143080"/>
                <a:gridCol w="21416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PROTOKOL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INTERAKCIJ MED VODJO IN UČENCI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KLASIFICIRANJE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INTERAKCIJ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PO PODOBNOSTI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POIMENOVANJE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KATEGORIJ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ZDRUŽEVANJE KATEG. V BOLJ ABSTRAKTNO KATEG. IN POIMENOVANJE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3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-“Nadenite si predpasnike.”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Kaj pa počneš? To ni predpasnik, to je vreča.”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Jaz bi rad žagal.” – “Ne, s P. bosta lepila.”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Kateri osel je spet pustil škatlo z orodjem na tleh?”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pd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Nadenite si predpasnike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Odložite čopiče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Obrnite liste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Potrebujemo lepilo</a:t>
                      </a: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Jaz bi rad žagal. –</a:t>
                      </a: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Ne, s P. bosta lepila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o bova midva. – </a:t>
                      </a: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Ne, to bosta onadva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6633"/>
                          </a:solidFill>
                          <a:latin typeface="Verdana"/>
                        </a:rPr>
                        <a:t>Kaj pa počneš? To ni predpasnik, to je vreča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6633"/>
                          </a:solidFill>
                          <a:latin typeface="Verdana"/>
                        </a:rPr>
                        <a:t>Kateri osel je spet pustil škatlo z orodjem na tleh?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Ukazovanje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cc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neposredno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9933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9933"/>
                          </a:solidFill>
                          <a:latin typeface="Verdana"/>
                        </a:rPr>
                        <a:t>posredno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Uveljavljanje volje vodje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6633"/>
                          </a:solidFill>
                          <a:latin typeface="Verdana"/>
                        </a:rPr>
                        <a:t>Kritika, ki prizadene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AVTOKRATSKO VODENJE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ESTAVLJANJE SEZNAMA RELEVANTNIH POJMOV/1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ojem = značilnost, lastnos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elevanten pojem = značilnost, ki je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pomembna za raziskavo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, ki jo je treba upoštevat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Primer: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V raziskavi o odnosu med motivacijo za zdravljenje in uspehom zdravljenja alkoholizma so upoštevali: </a:t>
            </a: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vrsto motivacije, uspešnost zdravljenja, spol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ESTAVLJANJE SEZNAMA RELEVANTNIH POJMOV/2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elevantne so še druge značilnosti, a niso bile upoštevane, npr. starost, izobrazba, trajanje zasvojenosti itd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Čim več relevantnih značilnosti upoštevamo, tem bolje; vendar se moramo v praksi vedno omejiti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2:13:44Z</dcterms:created>
  <dc:creator>Liljana Rihter</dc:creator>
  <dc:description/>
  <dc:language>en-US</dc:language>
  <cp:lastModifiedBy>Liljana Rihter</cp:lastModifiedBy>
  <dcterms:modified xsi:type="dcterms:W3CDTF">2008-11-04T14:24:28Z</dcterms:modified>
  <cp:revision>22</cp:revision>
  <dc:subject/>
  <dc:title>Diapozitiv 1</dc:title>
</cp:coreProperties>
</file>